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98BE-EADE-44EF-A322-36B3BD66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49D-7D16-4C20-A7E5-B729575B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E64-897C-4A2B-8B80-7C48283A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DEE-F9DF-4ECF-898A-79A49F94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89B-39B7-4C78-8D64-2B1A5041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FFC7-B656-4D1D-97CF-03189BA5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EB0-6CA9-4478-A465-548B2F82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D4A-8C34-4AAA-80E2-5A983702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0C0-4F64-4A34-8DC0-7374FEE6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9C3-8DC2-4334-8364-54C8BC8A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380-72E0-41A4-A90C-480A82A1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BB9F-6061-4306-9ECB-46DBC827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EE46-A5D6-431C-842F-AD899788CA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3"/>
          <p:cNvSpPr txBox="1"/>
          <p:nvPr/>
        </p:nvSpPr>
        <p:spPr>
          <a:xfrm>
            <a:off x="2079720" y="115920"/>
            <a:ext cx="518292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onotype Corsiva"/>
              </a:rPr>
              <a:t>Экономическая иг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2195640" y="1095480"/>
            <a:ext cx="518292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" Аукцион 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755640" y="3573360"/>
            <a:ext cx="7400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Тема: "Рынок труда.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9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5" name="j0212150.wav" descr=""/>
          <p:cNvPicPr/>
          <p:nvPr/>
        </p:nvPicPr>
        <p:blipFill>
          <a:blip r:embed="rId5"/>
          <a:stretch/>
        </p:blipFill>
        <p:spPr>
          <a:xfrm>
            <a:off x="900000" y="565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2484360" y="5094360"/>
            <a:ext cx="640872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474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какой формуле измеряется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2484360" y="4797360"/>
                <a:ext cx="3024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292428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 фразу: «Если фирма стремится максимизировать прибыль, то она должна увеличивать затраты труда до тех пор, пока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58920" y="5013360"/>
            <a:ext cx="878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ежный доход от предельного продукта не сравняется с денежными затратами на не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*M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равна альтернативная стоимость 1 часа дос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58920" y="501336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24000" y="42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положи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58920" y="494172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замены, который сокращает часы отдыха и заменяет их часами работы, т.е. дох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отрица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58920" y="494172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дохода, который сокращает часы работы и заменяет их часам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24000" y="4149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оказывает вертикальная кривая предложения на рынк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58920" y="4797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 дохода полностью компенсирует эффект замены, т.е. они разнонаправленны, но по абсолютной величин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3716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рыночное  предложени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58920" y="4581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ма объемов предложения труда всех работников при каждой возможн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ставка заработной платы является равно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8920" y="44370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ри сложившемся ее уровне количество людей, желающих получить работу, и число рабочих мест, предлагаемых работодателем сов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1187280" y="2060640"/>
            <a:ext cx="68421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73272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79280" y="2565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по графику равновесную ставку и равновесное количество зан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7"/>
          <p:cNvGrpSpPr/>
          <p:nvPr/>
        </p:nvGrpSpPr>
        <p:grpSpPr>
          <a:xfrm>
            <a:off x="1908000" y="4076640"/>
            <a:ext cx="4105440" cy="2782800"/>
            <a:chOff x="1908000" y="4076640"/>
            <a:chExt cx="4105440" cy="2782800"/>
          </a:xfrm>
        </p:grpSpPr>
        <p:sp>
          <p:nvSpPr>
            <p:cNvPr id="166" name="Line 9"/>
            <p:cNvSpPr/>
            <p:nvPr/>
          </p:nvSpPr>
          <p:spPr>
            <a:xfrm flipV="1">
              <a:off x="2627280" y="4292280"/>
              <a:ext cx="0" cy="20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2627280" y="6381720"/>
              <a:ext cx="3024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1"/>
            <p:cNvSpPr/>
            <p:nvPr/>
          </p:nvSpPr>
          <p:spPr>
            <a:xfrm>
              <a:off x="2627280" y="407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(руб/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507672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(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349236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"/>
            <p:cNvSpPr/>
            <p:nvPr/>
          </p:nvSpPr>
          <p:spPr>
            <a:xfrm>
              <a:off x="3059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3851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>
              <a:off x="421164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7"/>
            <p:cNvSpPr/>
            <p:nvPr/>
          </p:nvSpPr>
          <p:spPr>
            <a:xfrm>
              <a:off x="4643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 flipV="1">
              <a:off x="2843280" y="4724280"/>
              <a:ext cx="2520720" cy="115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>
              <a:off x="2916360" y="4508640"/>
              <a:ext cx="1655640" cy="151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363528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771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327672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3995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6"/>
            <p:cNvSpPr/>
            <p:nvPr/>
          </p:nvSpPr>
          <p:spPr>
            <a:xfrm>
              <a:off x="4427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2484360" y="4941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2484360" y="5373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2484360" y="587700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>
              <a:off x="2484360" y="450864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3"/>
            <p:cNvSpPr/>
            <p:nvPr/>
          </p:nvSpPr>
          <p:spPr>
            <a:xfrm>
              <a:off x="1908000" y="5661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4"/>
            <p:cNvSpPr/>
            <p:nvPr/>
          </p:nvSpPr>
          <p:spPr>
            <a:xfrm>
              <a:off x="1908000" y="515772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5"/>
            <p:cNvSpPr/>
            <p:nvPr/>
          </p:nvSpPr>
          <p:spPr>
            <a:xfrm>
              <a:off x="1908000" y="47242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6"/>
            <p:cNvSpPr/>
            <p:nvPr/>
          </p:nvSpPr>
          <p:spPr>
            <a:xfrm>
              <a:off x="1908000" y="4292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38"/>
          <p:cNvSpPr/>
          <p:nvPr/>
        </p:nvSpPr>
        <p:spPr>
          <a:xfrm>
            <a:off x="6516720" y="472428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50 руб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0 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ичины различий в уровнях оплаты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главные факторы, определяющие уровень оплаты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58920" y="443700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ость труда, тягость труда, ограниченность талантов, степень р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кройте понятие рынка т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овокупность экономических и юридических процедур, позволяющих людям обменивать свои трудовые услуги на заработную пл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пределяется заработная плата рабочих, объединенных в профсою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58920" y="443700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равновесием между спросом и предложением, а коллективным договором между профсоюзом и фир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187280" y="2133720"/>
            <a:ext cx="6842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5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79280" y="270828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сты считают, что профсоюзы могут стать источником инфляции. Так ли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0" y="450864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овышение з/п не сопровождается ростом производительности труда, то издержки фирмы возрастают, т.е. возникает инфляция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безрабо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468360" y="4581360"/>
                <a:ext cx="7920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безработицы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безработн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занят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749160" y="4581360"/>
                <a:ext cx="73566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занятости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занят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ите виды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58920" y="4724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, структурная, циклическая, сез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4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299736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безработный бухгалтер, уволившийся из-за сложных отношений с директором и ищущий работу по специаль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2400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79280" y="292428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стеклодувы, которые много лет тому назад остались без работы из-за изобретения специальных станков для изготовления буты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755640" y="580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24000" y="4508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рабочие обувной фабрики, уволенные из-за кризи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ическ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79280" y="299736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владелец водных аттракционов на Черном море в декаб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з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виды безработицы составляют естественный уровень безработ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755640" y="51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и 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особенность рынка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 и покупатели меняются местами: покупателями услуг труда являются фирмы, а продавцами – люди, предлагающие эти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азывается экономическим потенциалом 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755640" y="5157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 производства товаров и услуг при полной занятости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6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95280" y="386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79280" y="2997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предполагает полная занятость ресурс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468360" y="4508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агруженные производственные мощности на уровне 10-20% и естественный уровень безработицы на уровне 5,5-6,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ab7c15776273314921002d29fb57d9f1"/>
          <p:cNvPicPr/>
          <p:nvPr/>
        </p:nvPicPr>
        <p:blipFill>
          <a:blip r:embed="rId1"/>
          <a:stretch/>
        </p:blipFill>
        <p:spPr>
          <a:xfrm>
            <a:off x="6012000" y="3141720"/>
            <a:ext cx="2268360" cy="259704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5"/>
          <p:cNvSpPr/>
          <p:nvPr/>
        </p:nvSpPr>
        <p:spPr>
          <a:xfrm flipH="1">
            <a:off x="324000" y="260280"/>
            <a:ext cx="4465440" cy="4176720"/>
          </a:xfrm>
          <a:prstGeom prst="cloudCallout">
            <a:avLst>
              <a:gd name="adj1" fmla="val -90634"/>
              <a:gd name="adj2" fmla="val 35898"/>
            </a:avLst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6"/>
          <p:cNvSpPr txBox="1"/>
          <p:nvPr/>
        </p:nvSpPr>
        <p:spPr>
          <a:xfrm>
            <a:off x="1042920" y="981000"/>
            <a:ext cx="338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onotype Corsiva"/>
              </a:rPr>
              <a:t>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Monotype Corsiva"/>
              </a:rPr>
              <a:t>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pic>
        <p:nvPicPr>
          <p:cNvPr id="285" name="j0212430.wav" descr=""/>
          <p:cNvPicPr/>
          <p:nvPr/>
        </p:nvPicPr>
        <p:blipFill>
          <a:blip r:embed="rId8"/>
          <a:stretch/>
        </p:blipFill>
        <p:spPr>
          <a:xfrm>
            <a:off x="8101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4745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95280" y="4292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8360" y="2781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родается и покупается на рынке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8920" y="5229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уг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является ценой услуг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58920" y="450864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вка заработной платы, т.е. заработная плата работников за 1 час отработан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акое монопсо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нок одного покупателя, когда он влияет на формирование цен в большей степени, чем остальные участ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кривая спроса фирмы на услуги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58920" y="501336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количество покупаемых услуг труда в зависимости от изменения ставки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звучит закон спроса для рынка 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ыше плата, которую работники требуют за свой труд, тем меньше их число готовы нанять работод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общий продукт труда при изменении трудозатрат на одну единицу и при прочих рав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4T11:22:59Z</dcterms:modified>
  <cp:revision>49</cp:revision>
  <dc:subject/>
  <dc:title>Основы компьютерной графики</dc:title>
</cp:coreProperties>
</file>